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BF9-346C-4AC3-BD3A-00DCA557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F7DE-488A-46DB-AFCD-6C933322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AAA-9626-489C-B2D8-42F58684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0CE-AF45-458B-B88A-384951DE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48A1-6713-4593-A617-BA48A4D4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A778A-71BA-4805-90D6-4F79F144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8B95-709E-40E0-A40D-7D8E9641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4760-CC57-4B0A-B935-4BA479C9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6C34-8359-4CF3-BFE4-62DA38F6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7797-F735-4447-AB02-A93A7786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9603-909A-47B0-B168-C67DFEE3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4B24-6441-4F2F-88E7-A27F3012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F6CC-DEE9-4666-AB4D-507CF5BE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144C-F794-4470-A910-58E02355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4D04-855B-472A-B19B-F79731F1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6795-594F-482B-BD32-2A790200B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4A48-D55C-4A2A-97A2-0E50F19E8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584-7C58-49C3-B74A-09A770A7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01E-6382-4C0D-A942-0D37E12F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2C2-3E82-4F55-917C-DDBBB172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075-0C9D-4DB4-8C53-55AF9232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1D40-544F-4A25-807C-BE75EFF4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B530-D6E2-441F-A563-AB66BA5D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E4D4-BBE8-4E09-A685-62FA61CB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95B5-1F31-4DE6-A375-DB5360140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1D13-3951-4F28-BF88-D6DA3D2B1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-Lab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  Calculate the amount of oxygen consumed per minute for each v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 Reading/12 (total # of minutes)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 mL of oxygen/min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1828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  Explain why the germinating seeds use more oxygen per minute than the dry seed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consume oxygen but the germinating peas need mo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energ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growth and development.  Therefore, they respire at a higher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86800" cy="2438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1.  What is the effect of temperature on the volume of a gas?  How will this affect the readings of oxygen consump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5812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ly proportional - an increased temperature = increased gas volume &amp; vice ver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xygen readings are greater at higher tempera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19814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.  How does temperature affect the rate of metabolic reactions within a living organism?  Expl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piration rate of warm-blooded animals is independent of environmental temperature but for plants and cold-blooded animals, a drop in temperature results in a decreased respiration 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What gas is being consumed by the germinating pe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Write a balanced equation for the process of cellular respir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534520" cy="39621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--&gt; 6C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 + 38 A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What is the germinating seed using for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What specific activities are going on in the peas as they germin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iration, growth, &amp;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 Why is it necessary to correct the readings for the peas with those of the glass beads?  Expl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at only oxygen used by the peas is measured = accurat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ges that are due to temperature or pressure differences rather than actual oxygen consumption by peas must be subtracted from the rea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30481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= True     B = Fals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a closed system, such as these vials, the number of molecules of gas taken in is equal to the number of molecules of carbon dioxide gas given off during cellular respir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8229600" cy="15238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- True.  The balanced equation shows 6 molecules of oxygen reacting and 6 molecules of carbon dioxide being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600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.  What effect does the KOH have on the total number of gas molecules in the vial?  Explai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s it - KOH converts the C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s into a solid, therefore lowering the number of gas molecules in the v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30481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.  How does this affect the air pressure in the vial?  How does this affect the amount of movement in the bubble (total oxygen consumption) over tim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4266720"/>
            <a:ext cx="8534160" cy="2210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gas = less pressure; as pressure drops, water moves inward, toward the v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5:39:36Z</dcterms:created>
  <dc:creator>NHS NPS</dc:creator>
  <dc:description/>
  <dc:language>en-US</dc:language>
  <cp:lastModifiedBy>NHS NPS</cp:lastModifiedBy>
  <dcterms:modified xsi:type="dcterms:W3CDTF">2011-11-16T16:21:57Z</dcterms:modified>
  <cp:revision>3</cp:revision>
  <dc:subject/>
  <dc:title>Post-Lab Analysis</dc:title>
</cp:coreProperties>
</file>